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76092"/>
                </a:solidFill>
                <a:latin typeface="Calibri"/>
              </a:rPr>
              <a:t>Click to move the slide</a:t>
            </a: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AF182-6F88-4A55-942B-FE4570C74E8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CCAF3-CC43-4297-ADFC-3F1ABF026C0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C4FDF-CE6C-43AD-8392-C23F98E2401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58281-6A37-4F59-BA8D-417F35901F1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F58D0-1635-4BBC-B2D8-66D3E5D4AA83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EB159-16CA-4FE6-8FB3-82DD6761A2A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EE945-C0CB-440F-AE4D-1112215AC923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09874-7B56-4DD6-B0BB-F82316823CE9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DBED2-6F65-4B1C-A28F-195F872E008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D757-B8E7-4C1C-81EE-49A66D5A1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DD5E-CB27-460E-90F2-155EAD39A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7E75-0528-4AFB-B616-53BC2F38B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E0AC-534B-4063-BF8C-3BE69D736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A6F0D-6E61-40D7-85DE-BF5AED7BF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E5021-5471-4936-9E57-9CA3B5614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16962-A86E-4BBD-AC94-81D5D5B1F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6F238-0BBB-449B-8381-A8BD6E0FE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4D8EF-B845-48E7-A178-912405272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20D3C-D55A-4934-9870-35C550D1D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6A4D8-BBA3-4997-88C5-D2FA32635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3D7C-5918-4858-9B76-E48E8B849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241E6-6E74-4472-B751-F4145F6DF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B7D1E-AD5E-455F-B807-ED8B88974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B258D-0BBC-4A57-AE82-FAC404297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D1D75-07F2-4ED4-A75F-786B4512C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09683-DE9D-4213-95CC-185DCF263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D6CE6-EC42-40C9-A025-96F9DE4E9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8C32E-1947-4A4A-AD27-204E1167B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0FDEF-F1AA-4922-B3E4-82684E284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127DF-1164-40D6-93E6-34FD0781C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F5C23-58F8-44A6-AC10-FE837E20E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A640-8AD0-46A6-AF79-03BE1053B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D1F99-068A-4FBD-9293-B57E7FAF3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C96D3-83C0-47D4-A77E-9923CAF7B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3D02A-5FC5-454B-A15A-B25516CD5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BD47A-A6CC-47DA-AF36-30C31B32A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ABF0C-B0D6-4C72-8477-C16A072CF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FD499-8747-4D79-AE25-1E1CA8946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52A53-DFE7-422C-92FE-292D8CB13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0E19-B59F-471B-8BBA-C0A54DD5A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6081-17C9-4D53-9D59-30E509D79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44CA-8A8B-40AF-84EA-EF99E029F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5F63-DCC2-403A-A6EB-AC1E54D36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2D49-6731-4389-8B98-5F6D1B6DD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07FB-0E05-4C66-86DA-6430525F6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5C739-6792-474A-AB1D-E50B309B363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2C4D5-EBC2-4F85-8768-CE499439C5D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C0B63-897C-440E-A88E-F4A070D9BBA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C:\Users\sfg\Dropbox\hotel stars logo.jpg"/>
          <p:cNvPicPr/>
          <p:nvPr/>
        </p:nvPicPr>
        <p:blipFill>
          <a:blip r:embed="rId1"/>
          <a:stretch/>
        </p:blipFill>
        <p:spPr>
          <a:xfrm>
            <a:off x="1187280" y="907920"/>
            <a:ext cx="6356520" cy="41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376092"/>
                </a:solidFill>
                <a:latin typeface="Calibri"/>
              </a:rPr>
              <a:t>Sezonowość</a:t>
            </a: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08000" y="1352520"/>
            <a:ext cx="8894880" cy="23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pl-PL" sz="2700" spc="-1" strike="noStrike">
                <a:solidFill>
                  <a:srgbClr val="000000"/>
                </a:solidFill>
                <a:latin typeface="Calibri"/>
              </a:rPr>
              <a:t>Regularne wahania o określonym cyklu (okresie przebiegu); część zmienności zawarta w szeregach czasowych, która wiąże się z sezonowością zjawisk. Wahania sezonowe mogą być stałe lub zmienne ze względu na ich okres i amplitudę, </a:t>
            </a:r>
            <a:r>
              <a:rPr b="1" lang="pl-PL" sz="2700" spc="-1" strike="noStrike">
                <a:solidFill>
                  <a:srgbClr val="000000"/>
                </a:solidFill>
                <a:latin typeface="Calibri"/>
              </a:rPr>
              <a:t>np. wahania zapotrzebowania na energię elektryczną w ciągu doby, miesięczne wahania liczby bezrobotnych</a:t>
            </a:r>
            <a:r>
              <a:rPr b="0" lang="pl-PL" sz="2700" spc="-1" strike="noStrike">
                <a:solidFill>
                  <a:srgbClr val="000000"/>
                </a:solidFill>
                <a:latin typeface="Calibri"/>
              </a:rPr>
              <a:t>”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Box 3"/>
          <p:cNvSpPr/>
          <p:nvPr/>
        </p:nvSpPr>
        <p:spPr>
          <a:xfrm>
            <a:off x="6227640" y="3511440"/>
            <a:ext cx="245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Arial"/>
              </a:rPr>
              <a:t>Źródło: www.stat.gov.p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Chart 5" descr=""/>
          <p:cNvPicPr/>
          <p:nvPr/>
        </p:nvPicPr>
        <p:blipFill>
          <a:blip r:embed="rId1"/>
          <a:stretch/>
        </p:blipFill>
        <p:spPr>
          <a:xfrm>
            <a:off x="1065240" y="3954600"/>
            <a:ext cx="701352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376092"/>
                </a:solidFill>
                <a:latin typeface="Calibri"/>
              </a:rPr>
              <a:t>Sezonowość w Pekunii</a:t>
            </a: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196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każdym kwartale popyt na Wasze usługi jest w pewnym stopniu zależny od sezonowośc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Oznacza to, że, popyt na Wasze usługi może się różnić w zależności od pory roku/kwartału nawet jeżeli nie podejmujecie żadnych nowych decyzji. Takie zmiany zachodzą cyklicznie w ciągu każdego rok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376092"/>
                </a:solidFill>
                <a:latin typeface="Calibri"/>
              </a:rPr>
              <a:t>Nowe usługi</a:t>
            </a: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Lokalne władze Pekunii będą poszukiwać partnerów prywatnych do nowych inwestycji zwiększających atrakcyjność miasta. Firmy, które zdecydują się na udział w sfinansowaniu danej inwestycji otrzymają preferencyjne warunki na korzystanie z danej inwestycj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376092"/>
                </a:solidFill>
                <a:latin typeface="Calibri"/>
              </a:rPr>
              <a:t>Lista inwestycji</a:t>
            </a: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Kolejka liniowa na plaż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yciąg narciars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le golfow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Akcja charytatyw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Obraz 3" descr=""/>
          <p:cNvPicPr/>
          <p:nvPr/>
        </p:nvPicPr>
        <p:blipFill>
          <a:blip r:embed="rId1"/>
          <a:stretch/>
        </p:blipFill>
        <p:spPr>
          <a:xfrm>
            <a:off x="6516720" y="4181400"/>
            <a:ext cx="2193840" cy="1646280"/>
          </a:xfrm>
          <a:prstGeom prst="rect">
            <a:avLst/>
          </a:prstGeom>
          <a:ln w="0">
            <a:noFill/>
          </a:ln>
        </p:spPr>
      </p:pic>
      <p:pic>
        <p:nvPicPr>
          <p:cNvPr id="163" name="Obraz 4" descr=""/>
          <p:cNvPicPr/>
          <p:nvPr/>
        </p:nvPicPr>
        <p:blipFill>
          <a:blip r:embed="rId2"/>
          <a:stretch/>
        </p:blipFill>
        <p:spPr>
          <a:xfrm>
            <a:off x="3213000" y="4127400"/>
            <a:ext cx="2627280" cy="1749600"/>
          </a:xfrm>
          <a:prstGeom prst="rect">
            <a:avLst/>
          </a:prstGeom>
          <a:ln w="0">
            <a:noFill/>
          </a:ln>
        </p:spPr>
      </p:pic>
      <p:pic>
        <p:nvPicPr>
          <p:cNvPr id="164" name="Obraz 5" descr=""/>
          <p:cNvPicPr/>
          <p:nvPr/>
        </p:nvPicPr>
        <p:blipFill>
          <a:blip r:embed="rId3"/>
          <a:stretch/>
        </p:blipFill>
        <p:spPr>
          <a:xfrm>
            <a:off x="249120" y="4108320"/>
            <a:ext cx="2463840" cy="17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8920" y="2266560"/>
            <a:ext cx="87138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376092"/>
                </a:solidFill>
                <a:latin typeface="Calibri"/>
              </a:rPr>
              <a:t>Wprowadzenie do roku drugiego</a:t>
            </a:r>
            <a:endParaRPr b="1" lang="en-US" sz="5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Oval 7"/>
          <p:cNvSpPr/>
          <p:nvPr/>
        </p:nvSpPr>
        <p:spPr>
          <a:xfrm>
            <a:off x="0" y="407880"/>
            <a:ext cx="2457360" cy="1997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500" spc="-1" strike="noStrike">
                <a:solidFill>
                  <a:srgbClr val="000000"/>
                </a:solidFill>
                <a:latin typeface="Calibri"/>
              </a:rPr>
              <a:t>Runda piąta będzie pełna nowych zagadnień związanych z rozwojem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val Callout 8"/>
          <p:cNvSpPr/>
          <p:nvPr/>
        </p:nvSpPr>
        <p:spPr>
          <a:xfrm>
            <a:off x="3654360" y="1838160"/>
            <a:ext cx="1835280" cy="113364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500" spc="-1" strike="noStrike">
                <a:solidFill>
                  <a:srgbClr val="000000"/>
                </a:solidFill>
                <a:latin typeface="Calibri"/>
              </a:rPr>
              <a:t>Ja słyszałem o Banku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Oval Callout 9"/>
          <p:cNvSpPr/>
          <p:nvPr/>
        </p:nvSpPr>
        <p:spPr>
          <a:xfrm>
            <a:off x="5921280" y="1538280"/>
            <a:ext cx="2079720" cy="143352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500" spc="-1" strike="noStrike">
                <a:solidFill>
                  <a:srgbClr val="000000"/>
                </a:solidFill>
                <a:latin typeface="Calibri"/>
              </a:rPr>
              <a:t>A my o nowych pokojach. </a:t>
            </a:r>
            <a:br>
              <a:rPr sz="1500"/>
            </a:br>
            <a:r>
              <a:rPr b="0" i="1" lang="pl-PL" sz="1500" spc="-1" strike="noStrike">
                <a:solidFill>
                  <a:srgbClr val="000000"/>
                </a:solidFill>
                <a:latin typeface="Calibri"/>
              </a:rPr>
              <a:t>Niby się mają Deluxe nazywać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Diagram 11" descr=""/>
          <p:cNvPicPr/>
          <p:nvPr/>
        </p:nvPicPr>
        <p:blipFill>
          <a:blip r:embed="rId1"/>
          <a:stretch/>
        </p:blipFill>
        <p:spPr>
          <a:xfrm>
            <a:off x="-974880" y="1231920"/>
            <a:ext cx="6985080" cy="473076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376092"/>
                </a:solidFill>
                <a:latin typeface="Calibri"/>
              </a:rPr>
              <a:t>Rok drugi</a:t>
            </a:r>
            <a:endParaRPr b="1" lang="en-US" sz="5400" spc="-1" strike="noStrike">
              <a:solidFill>
                <a:srgbClr val="376092"/>
              </a:solidFill>
              <a:latin typeface="Calibri"/>
            </a:endParaRPr>
          </a:p>
        </p:txBody>
      </p:sp>
      <p:pic>
        <p:nvPicPr>
          <p:cNvPr id="137" name="Rounded Rectangle 4" descr=""/>
          <p:cNvPicPr/>
          <p:nvPr/>
        </p:nvPicPr>
        <p:blipFill>
          <a:blip r:embed="rId2"/>
          <a:stretch/>
        </p:blipFill>
        <p:spPr>
          <a:xfrm>
            <a:off x="5254560" y="2103480"/>
            <a:ext cx="3853080" cy="22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376092"/>
                </a:solidFill>
                <a:latin typeface="Calibri"/>
              </a:rPr>
              <a:t>Runda piąta</a:t>
            </a: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324000" y="1507680"/>
            <a:ext cx="86407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Bank Pewniak, który oferuje następujące produkt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kredyt inwestycyj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kredyt obrotow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lokaty terminow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Koniec dotacji z Unii Europejskiej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Możliwość budowania pokoi Delux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irtualny doradca będzie pojawiał się znacznie rzadziej</a:t>
            </a:r>
            <a:r>
              <a:rPr b="0" lang="pl-PL" sz="2800" spc="-1" strike="noStrike">
                <a:solidFill>
                  <a:srgbClr val="0e2f6b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5" descr="D:\Data\awinniczuk\AppData\Local\Microsoft\Windows\Temporary Internet Files\Content.IE5\W70HUXLV\MP900427591[1].jpg"/>
          <p:cNvPicPr/>
          <p:nvPr/>
        </p:nvPicPr>
        <p:blipFill>
          <a:blip r:embed="rId1"/>
          <a:stretch/>
        </p:blipFill>
        <p:spPr>
          <a:xfrm>
            <a:off x="6900840" y="5010120"/>
            <a:ext cx="188280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4360" y="-223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376092"/>
                </a:solidFill>
                <a:latin typeface="Calibri"/>
              </a:rPr>
              <a:t>Bank Pewniak</a:t>
            </a: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pic>
        <p:nvPicPr>
          <p:cNvPr id="142" name="Diagram 2" descr=""/>
          <p:cNvPicPr/>
          <p:nvPr/>
        </p:nvPicPr>
        <p:blipFill>
          <a:blip r:embed="rId1"/>
          <a:stretch/>
        </p:blipFill>
        <p:spPr>
          <a:xfrm>
            <a:off x="603360" y="1341360"/>
            <a:ext cx="827244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376092"/>
                </a:solidFill>
                <a:latin typeface="Calibri"/>
              </a:rPr>
              <a:t>Pokoje Deluxe</a:t>
            </a: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74840" y="1412640"/>
            <a:ext cx="864072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koje Deluxe mogą wzbogacić ofertę waszego hotelu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pyt na te pokoje może różnić się w zależności od lokalizacji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koje Deluxe charakteryzują się większą powierzchnią i lepszym wyposażeni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Group 3" descr=""/>
          <p:cNvPicPr/>
          <p:nvPr/>
        </p:nvPicPr>
        <p:blipFill>
          <a:blip r:embed="rId1"/>
          <a:stretch/>
        </p:blipFill>
        <p:spPr>
          <a:xfrm>
            <a:off x="6931080" y="4780080"/>
            <a:ext cx="1931760" cy="127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376092"/>
                </a:solidFill>
                <a:latin typeface="Calibri"/>
              </a:rPr>
              <a:t>Usługi podstawowe</a:t>
            </a:r>
            <a:endParaRPr b="1" lang="en-US" sz="6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501120" y="1520640"/>
            <a:ext cx="86410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drugim roku działalności będziecie mogli zaoferować nowe usługi, wzbogacając ofertę hotelu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Różni klienci mogą wykazywać różne preferencje dotyczące usłu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Group 7" descr=""/>
          <p:cNvPicPr/>
          <p:nvPr/>
        </p:nvPicPr>
        <p:blipFill>
          <a:blip r:embed="rId1"/>
          <a:stretch/>
        </p:blipFill>
        <p:spPr>
          <a:xfrm>
            <a:off x="6931080" y="4780080"/>
            <a:ext cx="1931760" cy="127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999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376092"/>
                </a:solidFill>
                <a:latin typeface="Calibri"/>
              </a:rPr>
              <a:t>Reklama lokalna i regionalna</a:t>
            </a:r>
            <a:endParaRPr b="1" lang="en-US" sz="5400" spc="-1" strike="noStrike">
              <a:solidFill>
                <a:srgbClr val="376092"/>
              </a:solidFill>
              <a:latin typeface="Calibri"/>
            </a:endParaRPr>
          </a:p>
        </p:txBody>
      </p:sp>
      <p:pic>
        <p:nvPicPr>
          <p:cNvPr id="150" name="Group 10" descr=""/>
          <p:cNvPicPr/>
          <p:nvPr/>
        </p:nvPicPr>
        <p:blipFill>
          <a:blip r:embed="rId1"/>
          <a:stretch/>
        </p:blipFill>
        <p:spPr>
          <a:xfrm>
            <a:off x="7023240" y="4780080"/>
            <a:ext cx="1931760" cy="1266840"/>
          </a:xfrm>
          <a:prstGeom prst="rect">
            <a:avLst/>
          </a:prstGeom>
          <a:ln w="0">
            <a:noFill/>
          </a:ln>
        </p:spPr>
      </p:pic>
      <p:pic>
        <p:nvPicPr>
          <p:cNvPr id="151" name="Diagram 2" descr=""/>
          <p:cNvPicPr/>
          <p:nvPr/>
        </p:nvPicPr>
        <p:blipFill>
          <a:blip r:embed="rId2"/>
          <a:stretch/>
        </p:blipFill>
        <p:spPr>
          <a:xfrm>
            <a:off x="212760" y="1871640"/>
            <a:ext cx="883908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8T15:53:37Z</dcterms:created>
  <dc:creator>sfg</dc:creator>
  <dc:description/>
  <dc:language>en-US</dc:language>
  <cp:lastModifiedBy>User</cp:lastModifiedBy>
  <dcterms:modified xsi:type="dcterms:W3CDTF">2014-04-12T21:18:51Z</dcterms:modified>
  <cp:revision>57</cp:revision>
  <dc:subject/>
  <dc:title>Slajd 1</dc:title>
</cp:coreProperties>
</file>